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B0B4-1A70-4401-902F-8B9D2D3AD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light key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light key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er cop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er cop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light second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light second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sion without “draf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cop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er tex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FB9-75DF-44A7-96FC-DB6A3D4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51B-EC85-4536-8EEB-0C54F5A8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A83-E797-4C77-9537-A799E606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5A1-D9B6-443F-9F68-1028B682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123-3488-464E-9E67-5F9DEA5E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988-FF54-45BE-9423-17AB4BC9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A70-3EB8-4498-8DC6-98BEF31E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488-2243-41F5-A766-94156997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9EE-2E0D-436D-A4AE-3E389BFA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6B0-D2B4-4AF7-85B7-6284734E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485-374F-49CF-9B15-428C18E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C6A-789F-4E9A-8031-97B668B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6681-4502-4CC6-BDE8-8CEB7E3B6D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AFT FOR DISCUSSION ONLY NOT FOR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4679-4F4F-4566-A160-3E0610F16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pokane Rive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ssolved Oxygen TMD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________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 Idaho Perspec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Gary 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ivens Pursley L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ch 23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21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en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kane contributes 3.75 times the phosphorus concentration as the Idaho communitie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noTech, March 11, 2010  at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74674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enu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3.1 times the chlorophyll-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noTech, March 11, 2010 at 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773424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Model Ins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O model shows unexpected flow variations, calling TMDL modeling into ques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noTech, March 11, 2010 at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7164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tic T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ic tanks are illegal point source discharg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nlawful to include loads for septic tanks  in the TMD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ptic tank loads should be estimated and removed from the TMD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ane County should receive sufficient offset for ope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mainder should be re-alloc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y of Spok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y of Spokane received an allocation disproportionate to future popul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schlerBise, February 26, 2010 at 1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50880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y of Spoka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ity of Spokane received an allocation including 9.6 MGD of I/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ty of Spokane Capital Facilities and Utilities Plan, Vol. 2 at 2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3725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ta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cology told Idaho dischargers about achievability of limi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MDL at C-3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3915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ta Management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cology told Washington discharg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MDL at 3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79711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MDL is on shaky 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rvoir or natural lake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ource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standard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of  “natural condition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of “dominant aquatic habit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otrophic or oligotrophic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ment of 25 ug/L phosphorus standard without rulema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ong eco-reg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ae bloom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Idaho 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 of Idaho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F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S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eur d’Al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Impacts of the TMD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osphorus loa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aho got crumbs at Washington’s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84520" indent="-412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ources of additional loads are avail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49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MDL is on shaky 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ity of Post Falls Water Reclamation Facil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serves:  City of Rathdrum (7,000) and City of Post Falls (26,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achieving better than 90% phosphorus remo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capacity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1 mg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27 Expected Flow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65 mg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service area popul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3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ed 2030 service area population: 83,8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yden Area Regional Sewer 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serves:  City of Hayden, Hayden Lake Recreational Water and Sewer District, and the Coeur d’Alene air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land-applying effluent during growing sea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capacity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0 mg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30 Expected Flow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mg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y of Coeur d’Al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serves:  City of Coeur d’Al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flow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mg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27 expected flow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6 mg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 service area popul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4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ed 2027 service area population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5,000 low estim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5,000 medium estim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Idaho Communities Willing To D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69840"/>
          <a:ext cx="8610480" cy="66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9840"/>
                    <a:ext cx="861048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 of TMDL on 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s 2027 GDP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$3.5 bill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r ye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schlerBise, February 26, 2010 at 1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055000" cy="286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477120" y="4648320"/>
            <a:ext cx="1600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$3,57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191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aho got crumbs at Washington’s t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ison of Washington and Idaho load al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434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4:44:15Z</dcterms:created>
  <dc:creator>mneher</dc:creator>
  <dc:description/>
  <dc:language>en-US</dc:language>
  <cp:lastModifiedBy>Gary Allen</cp:lastModifiedBy>
  <dcterms:modified xsi:type="dcterms:W3CDTF">2010-03-20T16:35:58Z</dcterms:modified>
  <cp:revision>89</cp:revision>
  <dc:subject/>
  <dc:title>Dissolved Oxygen TMDL Dispute Resolution</dc:title>
</cp:coreProperties>
</file>