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C730-6D9A-46C2-BB36-076BF67D6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key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key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er cop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er cop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second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second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sion without “draf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cop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er tex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3CE-9711-4A1F-8476-9578383A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A7A-5329-4CAA-AEBD-B6FBF033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73D-0CC3-4FB3-9EA1-7FF8D0AC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FFD-7512-4CC5-B3AA-AE2044B2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5DE-2D62-4F8B-A9E0-79CC6CF3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F62-7ED7-435F-813C-A5112752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A34-0AB8-4F87-A854-F9D22CE1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53B-3601-4972-BE4B-20A08FF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135-0093-45A0-9324-BDB00B82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845-E669-470B-AA8B-6CC7767A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7A7-81BD-4C40-8CCA-E8603198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402-D530-4982-8733-E6692A9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7FA8-6194-47C8-8B58-EC87B8ADD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FOR DISCUSSION ONLY NOT FOR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C8E-ED58-457F-96A2-6B9C4DF48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pokane Riv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ssolved Oxygen TMD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________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 Idaho Persp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Gary 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vens Pursley L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ch 23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21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kane contributes 3.75 times the phosphorus concentration as the Idaho communitie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noTech, March 11, 2010  at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74674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u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3.1 times the chlorophyll-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noTech, March 11, 2010 at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77342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Model In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O model shows unexpected flow variations, calling TMDL modeling into ques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noTech, March 11, 2010 at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7164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tic T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ic tanks are illegal point source dischar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nlawful to include loads for septic tanks  in the TMD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ptic tank loads should be estimated and removed from the TMD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ane County should receive sufficient offset for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der should be re-alloc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of Spok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y of Spokane received an allocation disproportionate to future popul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schlerBise, February 26, 2010 at 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5088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of Spoka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ty of Spokane received an allocation including 9.6 MGD of I/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ty of Spokane Capital Facilities and Utilities Plan, Vol. 2 at 2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3725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ta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cology told Idaho dischargers about achievability of limi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MDL at C-3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391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ta Management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cology told Washington discharg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MDL at 3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79711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MDL is on shaky 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rvoir or natural lake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ource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tandard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 “natural conditio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“dominant aquatic habi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trophic or oligotroph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ment of 25 ug/L phosphorus standard without rulema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ong eco-reg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ae bloo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Idaho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of Idaho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F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S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eur d’A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Impacts of the TMD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sphorus loa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aho got crumbs at Washington’s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ources of additional loads are avail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MDL is on shaky 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ty of Post Falls Water Reclamation Facil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serves:  City of Rathdrum (7,000) and City of Post Falls (26,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achieving better than 90% phosphorus rem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capacity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1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7 Expected Flow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65 mg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service area popul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3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ed 2030 service area population: 83,8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yden Area Regional Sewer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serves:  City of Hayden, Hayden Lake Recreational Water and Sewer District, and the Coeur d’Alene air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land-applying effluent during growing sea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capacity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0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30 Expected Flow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of Coeur d’Al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serves:  City of Coeur d’A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flow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7 expected flow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6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service area popul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ed 2027 service area population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5,000 low estim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5,000 medium estim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Idaho Communities Willing To 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69840"/>
          <a:ext cx="8610480" cy="66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9840"/>
                    <a:ext cx="861048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TMDL o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s 2027 GDP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$3.5 bill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 ye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schlerBise, February 26, 2010 at 1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55000" cy="286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77120" y="4648320"/>
            <a:ext cx="1600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$3,57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aho got crumbs at Washington’s 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Washington and Idaho load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434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4:44:15Z</dcterms:created>
  <dc:creator>mneher</dc:creator>
  <dc:description/>
  <dc:language>en-US</dc:language>
  <cp:lastModifiedBy>Gary Allen</cp:lastModifiedBy>
  <dcterms:modified xsi:type="dcterms:W3CDTF">2010-03-20T16:35:58Z</dcterms:modified>
  <cp:revision>89</cp:revision>
  <dc:subject/>
  <dc:title>Dissolved Oxygen TMDL Dispute Resolution</dc:title>
</cp:coreProperties>
</file>